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9944-8704-495F-9635-1D4C5864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1BB5-34F8-43CC-AB30-C606E73E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3394-A00E-4A74-9610-B805C55C5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62F4-41E1-4F5C-8000-56486142A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8A40-0EA3-451F-9AA6-F86D347A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65AF-A2D3-4CD7-87B2-5E12BC61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C0C6-33D5-4BEF-B62D-41E96D53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A5B1-4825-4A47-8FE7-A9623C0F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C64F-E79E-4BD5-844A-52CFF3E7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F7F8-0867-4C5D-B28C-CEE6FD96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054E-B55C-40BB-8488-C93B153C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1C75-A32C-4AE5-8CCF-8F825CF1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6D9F-9219-4BA8-A7B2-B84C41CFC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Arial"/>
              </a:rPr>
              <a:t>Bully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443640" y="4076640"/>
            <a:ext cx="1854360" cy="1819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63806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hanging Faces 2009 Registered Charity No. 1011222 Charity registered in Scotland SC03972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at is Bully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Bullying is when one person, or a group of people, make another person feel uncomfortable, upset or hu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Bullying is intentional – a person who bullies hurts someone else on purp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Bullying is persistent – it happens more than o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ullying can b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Physical</a:t>
            </a: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 – being violent towards someone, stealing from them or damaging their belonging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Verbal</a:t>
            </a: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 – name calling, saying nasty things about family and friends, making unkind jokes, threatening someone, saying nasty things behind someone’s bac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Technological</a:t>
            </a: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 – sending nasty text messages, silent or abusive phone calls, sending nasty emai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Indirect</a:t>
            </a: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 – spreading horrible stories about someone, ignoring them, excluding them from a game or grou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hat can we do if we see someone being bulli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Bullying Scenario 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Look at the bullying scenario and the list of possible things you could 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Put them in order with the thing you would be most likely to do at the top and least likely to do at the bott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Which of the things do you think would be most likely to help stop the bullying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hat can I do if someone says something nasty to 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569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Use Humour - say something funny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013360"/>
            <a:ext cx="2305080" cy="1297080"/>
          </a:xfrm>
          <a:prstGeom prst="wedgeEllipseCallout">
            <a:avLst>
              <a:gd name="adj1" fmla="val -48277"/>
              <a:gd name="adj2" fmla="val 69949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, we have something in common th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2205000"/>
            <a:ext cx="2952720" cy="2305080"/>
          </a:xfrm>
          <a:prstGeom prst="wedgeEllipseCallout">
            <a:avLst>
              <a:gd name="adj1" fmla="val 39513"/>
              <a:gd name="adj2" fmla="val 59365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, I haven’t always looked this stupi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’s a new look I’m trying out for the maths test tod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2637000"/>
            <a:ext cx="2016000" cy="1512720"/>
          </a:xfrm>
          <a:prstGeom prst="wedgeEllipseCallout">
            <a:avLst>
              <a:gd name="adj1" fmla="val -53935"/>
              <a:gd name="adj2" fmla="val 59236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at the best you can come up wit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19640" y="4724280"/>
            <a:ext cx="2374920" cy="1871640"/>
          </a:xfrm>
          <a:prstGeom prst="wedgeEllipseCallout">
            <a:avLst>
              <a:gd name="adj1" fmla="val 77004"/>
              <a:gd name="adj2" fmla="val 53138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you trying to be mean, or does it just come natural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19640" y="2492280"/>
            <a:ext cx="1584000" cy="1224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makes two of 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32000" y="4508640"/>
            <a:ext cx="1656000" cy="1295280"/>
          </a:xfrm>
          <a:prstGeom prst="wedgeEllipseCallout">
            <a:avLst>
              <a:gd name="adj1" fmla="val 59490"/>
              <a:gd name="adj2" fmla="val 913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lking to yourself aga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Write down five comments people have made about you which you didn’t 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hink of a funny reply or comment you could have said in retu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Practise saying these out loud – remember to use a strong and confident v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hat else can I do if I’m being bulli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Use your body language – people “say things” even when they don’t actually talk. Appear confident by smiling, keeping your head up and looking people in the ey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Keep your voice strong – try to speak in a loud clear vo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Take reinforcements – if you need to go somewhere new or difficult, take a friend, someone from your family or a mascot with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6:00:50Z</dcterms:created>
  <dc:creator>emilyg</dc:creator>
  <dc:description/>
  <dc:language>en-US</dc:language>
  <cp:lastModifiedBy>emilyg</cp:lastModifiedBy>
  <dcterms:modified xsi:type="dcterms:W3CDTF">2010-12-30T11:58:15Z</dcterms:modified>
  <cp:revision>10</cp:revision>
  <dc:subject/>
  <dc:title>Bullying</dc:title>
</cp:coreProperties>
</file>