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984-5D4B-43E4-A87E-978B4025A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0D3F-A243-42C2-AF27-461F44CF5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0013-87FF-4887-A193-187B621C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54D0-F9C1-451A-9D82-51347FECB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37D1-7355-4A29-9450-68021D4B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5DEA4-E53F-45F9-B482-1C9EA69A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58F3-D431-43EC-A9AD-4D20ED7AB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7F59-1939-489D-8DB8-96186957C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10EE5-5DF8-4F9D-9FBD-46D1DDFBA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02CF-6956-4966-9277-AE82DDD1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B10F-8A69-4FE1-A4DB-204A3E87A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29B-A768-4B29-9890-29089148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5CDA-6365-4A6C-9037-83FE9A5EB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9900"/>
                </a:solidFill>
                <a:latin typeface="Arial"/>
              </a:rPr>
              <a:t>Meeting New Peopl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86080" y="6236280"/>
            <a:ext cx="799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© Changing Faces 2009 Registered Charity No. 1011222 Charity registered in Scotland SC0397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68000" y="404640"/>
            <a:ext cx="806436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1. Hello, my name is Rory. Don’t mind my no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its just the way it is. What’s your na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2. I’m Ganda. Hi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3. Ganda, why’s your neck so lo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4. It’s a gene I guess. It helps me look out for l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and eat the leaves off tall tre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5. Is that what you eat? I eat grass and thing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like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6. I guess we’re both vegetarians th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122720"/>
            <a:ext cx="2192400" cy="2735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5445000"/>
            <a:ext cx="2268360" cy="119376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at do you think of the conversation between Rory and Ron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at did they say which was a good ide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How do you think Rory and Ronda fel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1. Hello, I’m Kare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r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. I’m Sarah. Why’s your nose so big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51640" y="1989000"/>
            <a:ext cx="2970000" cy="1594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39640" y="1628640"/>
            <a:ext cx="2232000" cy="22258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68360" y="4076640"/>
            <a:ext cx="82296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In pairs, pretend one of you is Sarah and one is Kareem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What might Kareem say next? How could Sarah reply so that they get to know each other bett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00"/>
                </a:solidFill>
                <a:latin typeface="Arial"/>
              </a:rPr>
              <a:t>Act out the rest of the conversation with your partner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11280" y="270792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magine that the alien and the person are meeting each other for the first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at might they say to get to know each other? What might they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n pairs, pretend one of you is the alien and one is the person. Act out the meeting with your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635280" y="260280"/>
            <a:ext cx="2521080" cy="239544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Imagine someone new to the school is standing next to you in the playgroun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How could you get to know them and make them feel comfor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What could you say or d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Arial"/>
              </a:rPr>
              <a:t>Imagi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1T12:50:46Z</dcterms:created>
  <dc:creator>emilyg</dc:creator>
  <dc:description/>
  <dc:language>en-US</dc:language>
  <cp:lastModifiedBy>emilyg</cp:lastModifiedBy>
  <dcterms:modified xsi:type="dcterms:W3CDTF">2009-12-23T14:10:41Z</dcterms:modified>
  <cp:revision>9</cp:revision>
  <dc:subject/>
  <dc:title>Slide 1</dc:title>
</cp:coreProperties>
</file>